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1181-F0A1-46A1-A8B2-2A892DB90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A673-83E2-4822-86C3-F649F7BF0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BCD9-36EF-401B-A670-FAAAEA2D3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9409-F90F-4D27-8C65-1139BC44D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9A6F-FFE8-4B7B-BAE7-055A978F1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F905-BC84-4894-A475-4F2640E22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28FE-6DCA-4EE5-90DA-71BDBBA27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C092-391C-472F-A250-C72E7E0E5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BEDD-DD4E-44B9-9688-5DEB7C153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2316-AA28-467B-987C-7F068C6C3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D0A5-ADF1-4CBA-B92F-73782364E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4E9E-00BE-4A01-B658-0833E0E88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EA7E-CBCB-4293-AE86-B21239D44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A99F-9F32-4F12-A7B5-C33C9E386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487B-91AF-4789-AA0A-91D224F60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6A96-5C0C-40A4-A850-F3AC6C5A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013D-5F2E-4D87-A0DC-CC0640A76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D90B-D983-4403-BDDE-4FA176CB6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3474-DB09-4422-922B-297A50521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C75E-3147-42A6-BF70-66DE0027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D017-2AE0-4B45-98C5-237D8FE5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8C9B-435C-4727-8A54-744C99A3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963F-93D9-4685-ABEE-417C1E2C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1F6E-31CD-45C7-B3AA-18173E88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8A8BB-AE11-4FFC-BA35-E6350D8E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908C-434C-40D9-B147-C567A288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8945-5EEB-47D2-878F-68CADCD5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E592-A8AE-4E6B-A5EE-95234B0B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5491-D850-4C0D-BED2-F913A5CC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A254-25F6-4297-AD18-9CB652CD7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2BC7-E9E6-4847-B989-3933420E0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1237-EBE1-442A-9EB0-5944C1F1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8EC2-CC17-463C-9DEB-685BFB76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290F-3862-478D-9D7A-24E5A88C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E083-6437-45C0-990B-A729CDDC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9783-9EE7-49A0-A4BF-D1F692E7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DD7C-8D02-45A1-93E9-9A74B0EC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A284-3621-4178-B030-0273114C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73E8-1501-480D-AFDC-CC81A1390E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8C2C-4160-4B8D-A1EB-507CB536A0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w3schools.com/php/" TargetMode="External"/><Relationship Id="rId2" Type="http://schemas.openxmlformats.org/officeDocument/2006/relationships/hyperlink" Target="http://www.php.net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opics Cover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er side web programm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wser/Server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ison with static 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P - what is it? What does it d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P Language bas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iables, Constants, Opera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P and the brows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P - Example Scrip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?ph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author = “Kris Secor”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msg = “Hello world!”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ho $author . “ says ” . $msg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P - Consta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tants are special variables that cannot be chang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them for named items that will not chan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ed using a define fun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e(‘milestokm’, 1.6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d without $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km = 5 * milestokm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P - Operato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ndard mathematical operat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, -, *, / and % (modulu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ing concatenation with a period (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car = “SEAT” . “ Altea”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ho $car; would output “SEAT Altea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ic Boolean comparison with “==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only = will overwrite a variable val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han &lt; and greater than 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= and &gt;= as above but include equa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P - Data Typ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P i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trictly typ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 to JAVA where all variables are decla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data type is either text or nume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P decides what type a variable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P can use variables in an appropriate way automat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$vat_rate = 0.175; /* VAT Rate is numeric 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cho $vat_rate * 100 . “%”; //outputs “17.5%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$vat_rate is converted to a string for the purpose of the echo stat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P - embedded langua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P can be placed directly inside HTML E.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ead&gt;&lt;title&gt;Basic PHP page&lt;/title&gt;&lt;/head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1&gt;&lt;?php echo “Hello World!; ?&gt;&lt;/h1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cision Making - Basic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ision making involves evaluating Boolean expressions (true / fals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($catishungry) { /* feed cat */ }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ue” and “false” are reserved wo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itializ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s $valid = fals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are with == or ==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and OR for combin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g. if($catishungry AND $havefood) {/* feed cat*/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P - one small step for man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giant leap for beginning stud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rst few steps are crucial - topics cover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ic structure and synta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iables, constants and opera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yp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y questions so f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P - Dealing with the brows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very nice but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is it useful in your web sit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P allows you to use HTML fo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s require technology at the server to process th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P is a feasible and good choice for the processing of HTML fo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P - Dealing with the brows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1532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ick re-cap on fo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lemented with a &lt;form&gt; element in 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ins other input, text area, list controls and op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s some method of submit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P </a:t>
            </a:r>
            <a:r>
              <a:rPr b="1" lang="mr-IN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Revieiwing HTM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xt fiel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eckbo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dio butt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st box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dden form fiel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word bo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bmit and reset butt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Server on the WW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 sites generally operate on a request/response ba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user requests a resource E.g. HTML docu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er responds by delivering the document to the brows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rowser processes the document and displays it to us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P - Dealing with the brows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form method=“post” action=“file.php” name=“frmid” 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specifies how the data will be s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on specifies the file to go to. E.g. file.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 gives the form a unique n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t method sends all contents of a form with basically hidden headers (not easily visible to user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 method sends all form input in the URL requested using name=value pairs separated by ampersands (&amp;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 process.php?name=trevor&amp;number=3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visible in the URL shown in the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P - Dealing with the brows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form values are placed into an arr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ume a form contains one textbox called “txtName” and the form is submitted using the post method, invoking process.ph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ss.php could access the form data using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$_POST[‘txtName’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form used the get method, the form data would be available 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$_GET[‘txtName’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P - Dealing with the brows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xample, an HTML form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form id=“showmsg” action=“show.php” method=“post”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&lt;input type=“text” id=“txtMsg” value=“Hello World” /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&lt;input type=“submit” id=“submit” value=“Submit”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messageform"/>
          <p:cNvPicPr/>
          <p:nvPr/>
        </p:nvPicPr>
        <p:blipFill>
          <a:blip r:embed="rId1"/>
          <a:stretch/>
        </p:blipFill>
        <p:spPr>
          <a:xfrm>
            <a:off x="990720" y="4876920"/>
            <a:ext cx="419076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P - Dealing with the brows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file called show.php would receive the submitted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could output the message, for examp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ead&gt;&lt;title&gt;Show Message&lt;/title&gt;&lt;/head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&lt;h1&gt;&lt;?php echo $_POST[“txtMsg”]; ?&gt;&lt;/h1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Message"/>
          <p:cNvPicPr/>
          <p:nvPr/>
        </p:nvPicPr>
        <p:blipFill>
          <a:blip r:embed="rId1"/>
          <a:stretch/>
        </p:blipFill>
        <p:spPr>
          <a:xfrm>
            <a:off x="4419720" y="5334120"/>
            <a:ext cx="358128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P - Dealing with the brows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 elements contain input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input element has an 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a form is posted, the file stated as the action can u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$_POST[“inputid”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a form uses the get metho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$_GET[“inputid”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sure you set all id attributes for form elements and their cont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P Introduction - Summ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pics cov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er side architecture brief over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ic PHP language top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ariables, Constants and Oper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cision making, IF and Switch state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aling with the brows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sour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3 Schools - </a:t>
            </a:r>
            <a:r>
              <a:rPr b="0" lang="en-US" sz="26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w3schools.com/php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P web site - </a:t>
            </a:r>
            <a:r>
              <a:rPr b="0" lang="en-US" sz="26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www.php.net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rver Side Programm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ts on the web server and can access that server’s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ws web sites to be browser independent (unless JavaScript is used als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p is embedded within mark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ter, you’ll learn how to make it separate from the marku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P - What is it / does it do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P: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P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pertext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-proces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gramming language that is interpreted and executed on the ser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ecution is done before delivering content to the brows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ins a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va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library of functionality that programmers can harn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ecutes entirely on the server, requiring no specific features from the brows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P - What is it / does it do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1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ic resources such as regular HTML are simply output to the browser from the 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ynamic resources such as PHP scripts are processed on the server prior to being output to the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P has the capability of connecting to many database systems making the entire process transparent to the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468360" y="4221000"/>
            <a:ext cx="1673280" cy="1784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"/>
          <p:cNvPicPr/>
          <p:nvPr/>
        </p:nvPicPr>
        <p:blipFill>
          <a:blip r:embed="rId2"/>
          <a:stretch/>
        </p:blipFill>
        <p:spPr>
          <a:xfrm>
            <a:off x="3635280" y="4365720"/>
            <a:ext cx="1727280" cy="1577880"/>
          </a:xfrm>
          <a:prstGeom prst="rect">
            <a:avLst/>
          </a:prstGeom>
          <a:ln w="0">
            <a:noFill/>
          </a:ln>
        </p:spPr>
      </p:pic>
      <p:sp>
        <p:nvSpPr>
          <p:cNvPr id="104" name="Oval 8"/>
          <p:cNvSpPr/>
          <p:nvPr/>
        </p:nvSpPr>
        <p:spPr>
          <a:xfrm>
            <a:off x="7308720" y="4869000"/>
            <a:ext cx="1368720" cy="57600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P Engine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n Scri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2050920" y="4365720"/>
            <a:ext cx="2232000" cy="504720"/>
          </a:xfrm>
          <a:prstGeom prst="rightArrow">
            <a:avLst>
              <a:gd name="adj1" fmla="val 50000"/>
              <a:gd name="adj2" fmla="val 11055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eb Page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5364000" y="4363920"/>
            <a:ext cx="2232360" cy="505080"/>
          </a:xfrm>
          <a:prstGeom prst="rightArrow">
            <a:avLst>
              <a:gd name="adj1" fmla="val 50000"/>
              <a:gd name="adj2" fmla="val 11049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ad PHP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1"/>
          <p:cNvSpPr/>
          <p:nvPr/>
        </p:nvSpPr>
        <p:spPr>
          <a:xfrm>
            <a:off x="5292720" y="5302080"/>
            <a:ext cx="2160720" cy="503280"/>
          </a:xfrm>
          <a:prstGeom prst="leftArrow">
            <a:avLst>
              <a:gd name="adj1" fmla="val 50000"/>
              <a:gd name="adj2" fmla="val 1073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HP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2"/>
          <p:cNvSpPr/>
          <p:nvPr/>
        </p:nvSpPr>
        <p:spPr>
          <a:xfrm>
            <a:off x="2050920" y="5280120"/>
            <a:ext cx="2160720" cy="503280"/>
          </a:xfrm>
          <a:prstGeom prst="leftArrow">
            <a:avLst>
              <a:gd name="adj1" fmla="val 50000"/>
              <a:gd name="adj2" fmla="val 1073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ML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P Summ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P: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P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pertext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-proces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preted and executed by the server on page requ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turns simple output to the brows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s a tremendous amount of functionality to programm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easily speak to our datab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P Language Basic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ok at the building blocks of the PHP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ntax and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iables, constants and opera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ypes and con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acting with the browser application (HTML form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P - Syntax and Stru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P is similar to 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scripts start with &lt;?php and with with ?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e separator: ; (semi-col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de block: { //code here } (brace bracke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ite space is generally ignored (not in string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ents are created using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092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/ single line quo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092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* Multiple line block quote 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092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forced using parenthe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092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 $sum = 5 + 3 * 6; // would equal 2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092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$sum = (5 + 3) * 6; // would equal 4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P - Variab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fixed with a $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ign values with = opera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$author = “Kris Secor”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need to define ty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riable names ar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ase sensi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author and $Author are differ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2T15:23:33Z</dcterms:created>
  <dc:creator>Trevor Adams</dc:creator>
  <dc:description/>
  <dc:language>en-US</dc:language>
  <cp:lastModifiedBy>Kristian Secor</cp:lastModifiedBy>
  <dcterms:modified xsi:type="dcterms:W3CDTF">2017-08-23T23:12:49Z</dcterms:modified>
  <cp:revision>67</cp:revision>
  <dc:subject>Web Design &amp; Development</dc:subject>
  <dc:title>Introduction to PHP</dc:title>
</cp:coreProperties>
</file>